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D020-3652-4DE0-8009-4D18E28AB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EC32-0C79-4F07-80CE-22CAE4A916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225C-15DE-4D0D-A380-CD90773C01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1559-E9B4-4BD1-BF8A-65C8DCCE50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4F5A-CC01-4680-BFC3-3F4F70A2D5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E085-6E1A-421C-9618-8EDA4FB543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CC43-4636-4437-B286-9AB35A7875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A049-710E-451D-93FF-F4547C33C8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D3DF-7E62-4313-B97F-552CCB473B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229C-718D-4F6A-B523-353C08C717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DA83-4C78-4F75-B0CA-351BCDF093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923A-46DC-417A-B6A2-5BE7B38869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6DF4-D156-4062-A2AB-DAE54E35D9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A7E8-0E87-409E-B00F-3A3853A3AA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90B4-A4F1-4A8C-9A22-2A36553CA4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AF82-DD41-451F-99FD-D9C1213A4B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E89A-A025-4120-B2E9-93F45177DF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7BA7-6C10-4EB7-8326-EE527D3740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5D90-634E-4B9E-A1C6-35927B114D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4187-9C30-4656-A01E-9570DC3501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ED2A-85A2-4A23-993B-71CEF7760B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0F7A-3C10-471D-861D-6EF8A7364E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B638-8A50-4F61-82A9-05AB1D8B6A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A7B1-49FE-4A2D-945C-5BE4D1A8C2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922C-BCAA-4062-AE91-5D6580CC27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1938-9BFB-4076-8C27-1C30B01DFF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FD8E-39D3-4F8E-A259-E1962297A3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5B5C-358F-40F1-AE4D-E86A50D1CF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56E9-ABA2-4F31-8D82-A8EC90B828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F87E-699A-4800-BD74-E82F2707A6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881D-726A-4AB7-B903-E604E420C1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7588-24E0-4D9C-8B17-6584F0BC03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2057-D7D1-4ED1-9720-E1961B1905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76BD-479A-413F-9B6D-0C2461C39E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028A-24C1-4F98-8FE2-9901107B0D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BC41-5622-4040-89C8-6B3667CB2F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C9FB-E2F3-452F-88AE-27CE18F7DE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14E9-90C8-45D6-AE57-DFE9174485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7D04-2559-4B0B-A407-273F36F9B8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1741-B801-4820-B485-85BB6A9BFC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3DD9-09DC-479E-AF16-9AD570CEE8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0871-D743-4923-9255-245178C4E9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CB20-A6A0-4FA9-8A4F-0F0555F794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1E12-E6CF-4DE4-80E9-9EE46C648C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77BA-8DB3-4BFC-99F5-1F666FF9CC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3E48-1C6B-4848-BB2B-1E75872E99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386A-B054-4094-BA86-C5156B187D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9CC5-094D-487D-819E-02D5826D96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D2A2-3750-4BA2-B520-DB5CB44F91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E9B9-95FF-444E-BCFE-062F9AA782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6B09-02F2-414B-9C39-4479426397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816A-00D0-4B50-95D9-D662157954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AA17-F8A2-4BA1-BEE3-F6B17FF543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431E-3091-46BB-9CDD-B4E8C3CB7B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6E85-C4DB-41F3-B76D-348DB84FB0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20A0-1E22-4097-8DDC-F17314B9F7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2A93-C563-4BD5-9771-14AD648C10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8822-C426-40A7-A1BC-D6412D7DA5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081E-309E-4116-BA59-8F14553896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0BCE-EFD1-4FE3-9CA0-590A524402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F171-DBBF-4555-A7D5-9D8185DADE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570A-03E9-4AE9-8741-84242516D3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5E5C-885F-4A61-B76E-43DFDA1764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03ED-292F-4722-B426-BBA6F07807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65F3-D25A-4CAD-968D-E4AF37EC01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C401-6E16-4285-B686-C77C3B7739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58B3-B16D-4DAB-8ADD-0B9E2E876B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F768-D4FC-4478-8644-02730F2C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712C-5179-4DA5-8773-FA984BAB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1DCE-6CF8-4771-8B13-C1415456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014-F2ED-4AA8-B2BC-9FEC946E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AA36B-1ABD-4261-AA52-5E7C07C8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A144A-0A08-4F4B-9BB1-AC36FA94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C07E0-FB07-4358-8EC9-E4BC9FE6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3E552-5809-498E-8F57-73842C45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B6AD9-EEE3-41C6-A2D8-DB07CE10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8B807-7997-4C48-9005-3EE51FC5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00812-EF1D-41ED-8160-0B4C4C5C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90C-D0CD-4431-85E2-E1D042C4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D9D45-54CC-46CB-B1CB-DB17111C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B0203-2405-4E1D-905E-9547A261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9837D-172D-42A5-A82D-B1B2BA4F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8AF13-B3AA-40DB-BA58-A4F4C24D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41FA0-4AAF-47E2-B0C3-223FCE49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B4F-66D3-4BB3-866C-FF7A1D76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ED1-D68A-458D-8ACB-0DB2A9C7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B268-25FD-495C-AFC0-3DE46DA4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35E-AF00-4726-86A3-7F283141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09AD-88F3-4864-AB8F-BCD04458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1810-4D22-47E5-AF2C-2E652866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414F-83AC-45DE-BB7F-E7202008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0319-562E-4B07-9427-8F2A8D9DF7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D5EE-C405-46F0-9A74-BEB2BCBEED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Euro in a New International Financial Archite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obert Mu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umbia Un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y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Joint EBF - ABA Conference: "Inter-Regional Banking Cooperation for Solid Financial Future" in Baku, Azerbaij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j0335112"/>
          <p:cNvPicPr/>
          <p:nvPr/>
        </p:nvPicPr>
        <p:blipFill>
          <a:blip r:embed="rId1"/>
          <a:stretch/>
        </p:blipFill>
        <p:spPr>
          <a:xfrm>
            <a:off x="6781680" y="3200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2"/>
          <p:cNvSpPr/>
          <p:nvPr/>
        </p:nvSpPr>
        <p:spPr>
          <a:xfrm>
            <a:off x="685800" y="4876920"/>
            <a:ext cx="1523880" cy="1447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066680" y="3429000"/>
            <a:ext cx="1143000" cy="99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6324480" y="4876920"/>
            <a:ext cx="83844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781680" y="31240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952880" y="579132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92920" y="3733920"/>
            <a:ext cx="790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131920" y="13716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971800" y="266688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656880" y="380988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791320" y="30844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04920" y="304920"/>
            <a:ext cx="90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(Inner circles represent gold stoc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2362320" y="175248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219320" y="365760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3657600" y="3276720"/>
            <a:ext cx="167652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219320" y="5410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2193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553080" y="5105520"/>
            <a:ext cx="38124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63244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010280" y="33526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5181480" y="59436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76920" y="5867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209680" y="990720"/>
            <a:ext cx="1828800" cy="1676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2819520" y="1447920"/>
            <a:ext cx="609480" cy="609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20968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British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556320" y="274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28"/>
          <p:cNvGraphicFramePr/>
          <p:nvPr/>
        </p:nvGraphicFramePr>
        <p:xfrm>
          <a:off x="-1066680" y="2895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895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9"/>
          <p:cNvSpPr/>
          <p:nvPr/>
        </p:nvSpPr>
        <p:spPr>
          <a:xfrm>
            <a:off x="3736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nited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0"/>
          <p:cNvSpPr/>
          <p:nvPr/>
        </p:nvSpPr>
        <p:spPr>
          <a:xfrm>
            <a:off x="3429000" y="1828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3276720" y="1981080"/>
            <a:ext cx="8380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5257800" y="4495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 flipV="1">
            <a:off x="1523880" y="4572000"/>
            <a:ext cx="22860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4800600" y="480024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akdown of the Gold Standard in Early 1930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back to gold created an excess demand for it and dragged the world into deflation and de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jor countries suffered price declines of 35%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left gold in 1931 and the U.S. in 1933, only to go back to gold in 1934 at a higher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934-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lation led to the breakup of the gold standard and the U.S. went off gold in 193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34, however, FDR devalued the dollar and put the U.S. back on a weak form of the gold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de the U.S. explicitly the center of the international monetary system for the next four dec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and the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eting of 44 nations in Bretton Woods, New Hampshire, U.S.A., in 1944, the International Monetary Fund  was set up to supervise the fixed exchange rat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tton Woods took not create a new system; it endorsed that which had already evol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vertible Dollar Stand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Bretton Woods System” was an anchored dollar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kept the dollar price of gold fixed and the other countries kept their currencies fixed to the dol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295280" y="609480"/>
            <a:ext cx="6172200" cy="624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1447920" y="1981080"/>
            <a:ext cx="1447560" cy="144792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124080" y="1676520"/>
            <a:ext cx="2362320" cy="236196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114800"/>
            <a:ext cx="914400" cy="9144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3124080" y="4876920"/>
            <a:ext cx="1143000" cy="1143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7467480" y="1752480"/>
            <a:ext cx="914400" cy="990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Sov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486400" y="3048120"/>
            <a:ext cx="1143000" cy="1143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105520" y="4495680"/>
            <a:ext cx="685800" cy="6858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114800" y="4800600"/>
            <a:ext cx="228600" cy="3049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581280" y="990720"/>
            <a:ext cx="228600" cy="22860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" y="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Dollar Standard 1934-19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A.K.A. the Bretton Wood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Syste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819520" y="2438280"/>
            <a:ext cx="457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971800" y="3657600"/>
            <a:ext cx="533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486400" y="2971800"/>
            <a:ext cx="380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3657600" y="3962520"/>
            <a:ext cx="38088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800600" y="3886200"/>
            <a:ext cx="45720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238880" y="3581280"/>
            <a:ext cx="609840" cy="5335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562720" y="533520"/>
            <a:ext cx="1143000" cy="1143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 flipV="1">
            <a:off x="5105520" y="1523880"/>
            <a:ext cx="6858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3" descr="BD10297_"/>
          <p:cNvPicPr/>
          <p:nvPr/>
        </p:nvPicPr>
        <p:blipFill>
          <a:blip r:embed="rId1"/>
          <a:stretch/>
        </p:blipFill>
        <p:spPr>
          <a:xfrm>
            <a:off x="2209680" y="1828800"/>
            <a:ext cx="131760" cy="123840"/>
          </a:xfrm>
          <a:prstGeom prst="rect">
            <a:avLst/>
          </a:prstGeom>
          <a:ln w="0">
            <a:noFill/>
          </a:ln>
        </p:spPr>
      </p:pic>
      <p:sp>
        <p:nvSpPr>
          <p:cNvPr id="287" name="Oval 24"/>
          <p:cNvSpPr/>
          <p:nvPr/>
        </p:nvSpPr>
        <p:spPr>
          <a:xfrm>
            <a:off x="6781680" y="48769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5" descr="BD10301_"/>
          <p:cNvPicPr/>
          <p:nvPr/>
        </p:nvPicPr>
        <p:blipFill>
          <a:blip r:embed="rId2"/>
          <a:stretch/>
        </p:blipFill>
        <p:spPr>
          <a:xfrm>
            <a:off x="6114960" y="49719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89" name="Oval 26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7" descr="BD10300_"/>
          <p:cNvPicPr/>
          <p:nvPr/>
        </p:nvPicPr>
        <p:blipFill>
          <a:blip r:embed="rId3"/>
          <a:stretch/>
        </p:blipFill>
        <p:spPr>
          <a:xfrm>
            <a:off x="5715000" y="2286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BD10301_"/>
          <p:cNvPicPr/>
          <p:nvPr/>
        </p:nvPicPr>
        <p:blipFill>
          <a:blip r:embed="rId4"/>
          <a:stretch/>
        </p:blipFill>
        <p:spPr>
          <a:xfrm>
            <a:off x="6477120" y="22096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292" name="Oval 29"/>
          <p:cNvSpPr/>
          <p:nvPr/>
        </p:nvSpPr>
        <p:spPr>
          <a:xfrm>
            <a:off x="3657600" y="2209680"/>
            <a:ext cx="13716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S.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System Broke Down in 19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broke down in 1971 because world prices had tripled while gold prices had been fixed, giving rise to an excess demand f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give up all its gold stock, the U.S. took the dollar off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countries then took their currencies off the dollar, giving rise to fluctuating exchange 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the end of Bretton W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exible Exchange Rates the Result of Failure to Negoti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W System broke down because the world price level tripled while the price of gold was kept at $35, the price set in 193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esident Nixon took the dollar off gold on August 15, 1971, the other countries took their currencies off the dol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ajor countries wanted to scrap the system but a reformed system could not be negoti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uctuating Exchange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onetary National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ctuating exchange rates meant that each country was responsible for its own monetary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augurated an era of monetary nation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onetary Syste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monetary systems were characterized by use of the precious metals, mainly gold and silver, and common use of a popular unit of account and medium of exchange typically associated with a great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urrencies of the past millennium have been the bezant, denier, dinar, dirham, florin, sequin, ducat,  maravedi, thaler, Spanish dollars, livres, pounds, dollars and eu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Chaotic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85 members of the IMF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of countries on flexible rates would have meant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f there are N = 200 countries in the world with separate currencies, there are ½ x N x (N-l) = 19,900 exchange rat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uctuating Rates the Worst Ide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ctuating rates a system of monetary nation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countries lose the most, the biggest countries might 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 was invented by the superpowers, Britain in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 and U.S. in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never subjected to careful scruti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tional Monetar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fixed exchange rate system, the smaller countries could benefit from being part of the huge dollar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kup of the fixed exchange rate system by the monetary nationalists shifted power and seigniorage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Gaulle called “an exorbitant privileg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did not want to share the gains of its large currency area with the rest of the worl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  <a:ea typeface="新細明體"/>
              </a:rPr>
              <a:t>Flexible Rates 1973-99</a:t>
            </a:r>
            <a:r>
              <a:rPr b="1" lang="en-US" sz="3700" spc="-1" strike="noStrike">
                <a:solidFill>
                  <a:srgbClr val="ffcc00"/>
                </a:solidFill>
                <a:latin typeface="Arial"/>
                <a:ea typeface="新細明體"/>
              </a:rPr>
              <a:t> 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7" name="Picture 3" descr="BD10297_"/>
          <p:cNvPicPr/>
          <p:nvPr/>
        </p:nvPicPr>
        <p:blipFill>
          <a:blip r:embed="rId1"/>
          <a:stretch/>
        </p:blipFill>
        <p:spPr>
          <a:xfrm>
            <a:off x="239868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D10298_"/>
          <p:cNvPicPr/>
          <p:nvPr/>
        </p:nvPicPr>
        <p:blipFill>
          <a:blip r:embed="rId2"/>
          <a:stretch/>
        </p:blipFill>
        <p:spPr>
          <a:xfrm>
            <a:off x="659772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D10300_"/>
          <p:cNvPicPr/>
          <p:nvPr/>
        </p:nvPicPr>
        <p:blipFill>
          <a:blip r:embed="rId3"/>
          <a:stretch/>
        </p:blipFill>
        <p:spPr>
          <a:xfrm>
            <a:off x="2411280" y="4954680"/>
            <a:ext cx="127080" cy="109440"/>
          </a:xfrm>
          <a:prstGeom prst="rect">
            <a:avLst/>
          </a:prstGeom>
          <a:ln w="0">
            <a:noFill/>
          </a:ln>
        </p:spPr>
      </p:pic>
      <p:sp>
        <p:nvSpPr>
          <p:cNvPr id="310" name="Oval 6"/>
          <p:cNvSpPr/>
          <p:nvPr/>
        </p:nvSpPr>
        <p:spPr>
          <a:xfrm>
            <a:off x="1905120" y="297180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新細明體"/>
              </a:rPr>
              <a:t>D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914400" y="1676520"/>
            <a:ext cx="1398600" cy="132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2952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20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5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6704640" y="23623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5564160" y="50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3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4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6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37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38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39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0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1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2"/>
          <p:cNvSpPr/>
          <p:nvPr/>
        </p:nvSpPr>
        <p:spPr>
          <a:xfrm>
            <a:off x="3429000" y="5181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4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6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4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48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50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51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52"/>
          <p:cNvSpPr/>
          <p:nvPr/>
        </p:nvSpPr>
        <p:spPr>
          <a:xfrm flipH="1">
            <a:off x="5943240" y="4800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3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4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5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6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57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0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4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5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6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7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8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0"/>
          <p:cNvSpPr/>
          <p:nvPr/>
        </p:nvSpPr>
        <p:spPr>
          <a:xfrm>
            <a:off x="2590920" y="365760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Unofficial Dollar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 flexible exchange rates did less harm because countries could use the dollar as a unit of account and keep currency reserves in doll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st countries “the exchange rate” meant the rate on the dol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became an unofficial world central bank, providing global reserves, supplying the unit of account, and sometimes acting as lender of last res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Financial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no banking crises under the Bretton Woods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trast there were four banking crises under fluctuating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l associated with large swings in major exchange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ajor exchange rates involved were the dollar rate against European currencies, and the dollar-yen r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Four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&amp;L Crisis – early 198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tional Debt Crisis – 19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F-Asian Crisis – 199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Shock and World Crisis -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6.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uropean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most of all disliked flexible rates and the power it gave the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embarked on its project for a common currency even before the system broke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a European currency (called europa) was presented and published in 19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Evolution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Currency Areas Before the Euro: 1990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3" descr="BD10297_"/>
          <p:cNvPicPr/>
          <p:nvPr/>
        </p:nvPicPr>
        <p:blipFill>
          <a:blip r:embed="rId1"/>
          <a:stretch/>
        </p:blipFill>
        <p:spPr>
          <a:xfrm>
            <a:off x="239868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D10298_"/>
          <p:cNvPicPr/>
          <p:nvPr/>
        </p:nvPicPr>
        <p:blipFill>
          <a:blip r:embed="rId2"/>
          <a:stretch/>
        </p:blipFill>
        <p:spPr>
          <a:xfrm>
            <a:off x="659592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D10300_"/>
          <p:cNvPicPr/>
          <p:nvPr/>
        </p:nvPicPr>
        <p:blipFill>
          <a:blip r:embed="rId3"/>
          <a:stretch/>
        </p:blipFill>
        <p:spPr>
          <a:xfrm>
            <a:off x="2409840" y="4952880"/>
            <a:ext cx="128520" cy="11124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981080" y="289548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  <a:ea typeface="新細明體"/>
              </a:rPr>
              <a:t>D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533520" y="1295280"/>
            <a:ext cx="177948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438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219320" y="1981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7772400" y="5029200"/>
            <a:ext cx="38088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6626880" y="28702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97880" y="5486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8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29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2057400" y="525780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Braz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2895480" y="54864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Arial"/>
                <a:ea typeface="新細明體"/>
              </a:rPr>
              <a:t>A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3429000" y="5181480"/>
            <a:ext cx="53352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42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44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5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46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7696080" y="4648320"/>
            <a:ext cx="219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53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54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5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57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9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2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3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64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Currency Areas after the E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452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80880" y="838080"/>
            <a:ext cx="170352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57200" y="31240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19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724140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7"/>
          <p:cNvSpPr/>
          <p:nvPr/>
        </p:nvSpPr>
        <p:spPr>
          <a:xfrm>
            <a:off x="8077320" y="403848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43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47"/>
          <p:cNvSpPr/>
          <p:nvPr/>
        </p:nvSpPr>
        <p:spPr>
          <a:xfrm>
            <a:off x="1523880" y="2438280"/>
            <a:ext cx="838440" cy="838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0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1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114480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4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5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6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7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8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9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506" name="Line 60"/>
          <p:cNvSpPr/>
          <p:nvPr/>
        </p:nvSpPr>
        <p:spPr>
          <a:xfrm flipH="1" flipV="1">
            <a:off x="1905120" y="35812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1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2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3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4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8155800" y="41911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67"/>
          <p:cNvSpPr/>
          <p:nvPr/>
        </p:nvSpPr>
        <p:spPr>
          <a:xfrm>
            <a:off x="2272680" y="440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69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70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on of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ation of the euro in 1999 concentrated the monetary power of most of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its creation, the euro overtook the yen as the #2 currenc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Britain joined it, the euro area would be as large or larger than the dollar area (depending on the exchange r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opted out because of its fear of instability of the dollar-euro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he 2007-10 Financial Shock     in Four Ac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Context: Three Great Boo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1982-90, the “Seven Fat Years” of the Reagan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-2001, was the longest expansion in America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boom was the Bush expansion of 2002-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ur 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-prime mortg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isis crystallized on Aug 9-10,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Sept 15, 2008 bankruptcy of Lehman Bros, AIG and its afterm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The economic contraction that occurred from 2008(3) to 2009(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deficit-debt fallout of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y the Lehman Crisis of 2008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-prime mortgage crisis had been managed with the unprecedented $300 billion central bank bailouts of August 9-10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onated the Lehman crash more than a year l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swer is monetary tightness after Jun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Dollar Appreciation During a Rec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Fed’s Shift to Tigh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ne 2008 the Fed listened to inflation haw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w the huge balance sheet as an inflationary thr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ey multiplier had fallen in half, from 8 to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ought  when the money multiplier reverted to normal, the system would explode in inf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ymptoms of Monetary Tightness in 2008(3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commodity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inflation rate to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Phases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Reserve Asset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Leader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03-1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Bimetal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&amp; Sil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73-1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15-1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24-19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,$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UK,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34-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G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1-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3-19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Flex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F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85-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Man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9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and E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 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2010-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Currenc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.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C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EM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ight Money in last half of 2008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6560" y="2209680"/>
            <a:ext cx="74170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—30% appreciation against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ing Price of Gold—3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ing Oil prices—7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Inflation Rate (annualized) lowered from 5.5% in June 08 to negative in early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609480" y="380880"/>
          <a:ext cx="8128080" cy="5867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3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The Dollar in Euros and the Price of Gold in Dollars in July and November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Euros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Dollars per E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Gold ounce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July 15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ct 27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76520" y="609480"/>
          <a:ext cx="5995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95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3"/>
          <p:cNvSpPr/>
          <p:nvPr/>
        </p:nvSpPr>
        <p:spPr>
          <a:xfrm flipV="1">
            <a:off x="4572000" y="1828440"/>
            <a:ext cx="0" cy="380988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 flipV="1">
            <a:off x="5791320" y="1294920"/>
            <a:ext cx="0" cy="434340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4419720" y="1600200"/>
            <a:ext cx="1676160" cy="23623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648320" y="2971800"/>
            <a:ext cx="1371600" cy="19051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5362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105520" y="685800"/>
            <a:ext cx="1143000" cy="5181480"/>
          </a:xfrm>
          <a:prstGeom prst="rect">
            <a:avLst/>
          </a:prstGeom>
          <a:solidFill>
            <a:srgbClr val="3399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Fail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751040"/>
            <a:ext cx="7696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brought down by dollar appreciation in the 2008 (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B back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sen-Bernanke decided not to save Leh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to save Leh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w Polic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d Policy in 201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 did not acknowledge its mistake in 20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ing it in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ar appreciation brought the stock marke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killing job growth, and creating the basis for a double d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2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3"/>
          <p:cNvSpPr/>
          <p:nvPr/>
        </p:nvSpPr>
        <p:spPr>
          <a:xfrm>
            <a:off x="1674720" y="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High Doll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the Fed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scrap its “malign neglect” of the exchan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ut a floor to the euro, and add foreign assets to its balance sheet, without sterilizing the effect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forbid the FRBNY from sterilizing the effects of euro purchase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make a deal with the ECB to keep the dollar-euro exchange rate within a narrow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Europe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has gained by the strong dollar policy of the U.S. But enough is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will boom and help Euro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euro will diminish the debt burdens of the fiscally-weak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chance that debt restructuring may be needed for one or two fiscally-weak states during next five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euro deconstr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he Age of the Pound Ster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t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the British Empire was a leading power and the pound sterling the most important currency in the world, with London as the dominant financial center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uro Area 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 area needs to move toward greater fiscal centra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s on Increases in Discretionary Spe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political integration could include a consolidation of European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uro-Area Bills and Bo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able to turn national bills and bonds into euro-area bills and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involved a commitment toward greater political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-Area Treasury Bills and Bonds would help the euro area mature financ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dvantage to furthering the international use of the e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95280" y="2742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Toward a Global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Problem of th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ation of the euro was a great benefit to Europe but it split the core of the world economy into two currency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swings in the dollar-euro rate are very damaging to T.W. and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re very dangerous for the res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wo Approaches for Rest of the Wor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ies for Africa, Latin America and As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pproaches toward a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s to stabilize the dollar-euro rate. This would require an agreement between Europe and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is to use a basket of the two currencies. This could be done through the IMF, with an improvement in the SD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veral Competing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ati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Currenc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Metal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A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SimSun"/>
              </a:rPr>
              <a:t>n Asian Currency by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2015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2700360" y="981000"/>
            <a:ext cx="3395520" cy="338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6324480" y="3200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564000" y="249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9"/>
          <p:cNvSpPr/>
          <p:nvPr/>
        </p:nvSpPr>
        <p:spPr>
          <a:xfrm>
            <a:off x="0" y="3124080"/>
            <a:ext cx="2819520" cy="275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0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7467480" y="137160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Oval 14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16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4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627280" y="5084640"/>
            <a:ext cx="91440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227640" y="27082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3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36"/>
          <p:cNvSpPr/>
          <p:nvPr/>
        </p:nvSpPr>
        <p:spPr>
          <a:xfrm>
            <a:off x="6019920" y="1143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1890360" y="4075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1356480" y="33130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102600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HK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1819440" y="4745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378000" y="3448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Ba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181440" y="4149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-P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1051200" y="54435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Australia-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PEC Solution? Simple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if Japan fixed yen to dollar,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like China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410080" y="2276640"/>
            <a:ext cx="3421080" cy="3192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69236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7"/>
          <p:cNvSpPr/>
          <p:nvPr/>
        </p:nvSpPr>
        <p:spPr>
          <a:xfrm>
            <a:off x="0" y="762120"/>
            <a:ext cx="5105520" cy="5160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348000" y="29242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195640" y="9810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1700280"/>
            <a:ext cx="478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3564000" y="5013360"/>
            <a:ext cx="152280" cy="152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2743200" y="457200"/>
            <a:ext cx="103356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C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152280" y="1052640"/>
            <a:ext cx="3657600" cy="34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21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3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19280" y="3573360"/>
            <a:ext cx="1871640" cy="2065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3708000" y="1811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27"/>
          <p:cNvSpPr/>
          <p:nvPr/>
        </p:nvSpPr>
        <p:spPr>
          <a:xfrm>
            <a:off x="3635280" y="1413000"/>
            <a:ext cx="79236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SimSun"/>
              </a:rPr>
              <a:t>Lat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9"/>
          <p:cNvSpPr/>
          <p:nvPr/>
        </p:nvSpPr>
        <p:spPr>
          <a:xfrm>
            <a:off x="324000" y="2133720"/>
            <a:ext cx="1885680" cy="19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5946120" y="1295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ak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34"/>
          <p:cNvSpPr/>
          <p:nvPr/>
        </p:nvSpPr>
        <p:spPr>
          <a:xfrm>
            <a:off x="4643280" y="10526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4701960" y="1341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419640" y="4797360"/>
            <a:ext cx="20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9"/>
          <p:cNvSpPr/>
          <p:nvPr/>
        </p:nvSpPr>
        <p:spPr>
          <a:xfrm>
            <a:off x="2197800" y="1989000"/>
            <a:ext cx="519120" cy="825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3546360" y="33051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1"/>
          <p:cNvSpPr/>
          <p:nvPr/>
        </p:nvSpPr>
        <p:spPr>
          <a:xfrm>
            <a:off x="2197800" y="422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756720" y="2852640"/>
            <a:ext cx="766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C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28440" y="-15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新細明體"/>
              </a:rPr>
              <a:t>Alternative Scenario: APEC + Europe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4" name="Picture 3" descr="BD10300_"/>
          <p:cNvPicPr/>
          <p:nvPr/>
        </p:nvPicPr>
        <p:blipFill>
          <a:blip r:embed="rId1"/>
          <a:stretch/>
        </p:blipFill>
        <p:spPr>
          <a:xfrm>
            <a:off x="2416320" y="2619360"/>
            <a:ext cx="117360" cy="125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BD10297_"/>
          <p:cNvPicPr/>
          <p:nvPr/>
        </p:nvPicPr>
        <p:blipFill>
          <a:blip r:embed="rId2"/>
          <a:stretch/>
        </p:blipFill>
        <p:spPr>
          <a:xfrm>
            <a:off x="6594480" y="2600280"/>
            <a:ext cx="150840" cy="16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BD10301_"/>
          <p:cNvPicPr/>
          <p:nvPr/>
        </p:nvPicPr>
        <p:blipFill>
          <a:blip r:embed="rId3"/>
          <a:stretch/>
        </p:blipFill>
        <p:spPr>
          <a:xfrm>
            <a:off x="2416320" y="4951440"/>
            <a:ext cx="117360" cy="125280"/>
          </a:xfrm>
          <a:prstGeom prst="rect">
            <a:avLst/>
          </a:prstGeom>
          <a:ln w="0">
            <a:noFill/>
          </a:ln>
        </p:spPr>
      </p:pic>
      <p:sp>
        <p:nvSpPr>
          <p:cNvPr id="657" name="Oval 6"/>
          <p:cNvSpPr/>
          <p:nvPr/>
        </p:nvSpPr>
        <p:spPr>
          <a:xfrm>
            <a:off x="685800" y="1219320"/>
            <a:ext cx="2666880" cy="2743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209680" y="914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962520" y="2286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1295280" y="2057400"/>
            <a:ext cx="18288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 E 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447920" y="1447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133720" y="213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1371600" y="3352680"/>
            <a:ext cx="1447920" cy="1524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6400800" y="33526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3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4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5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6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67832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31"/>
          <p:cNvSpPr/>
          <p:nvPr/>
        </p:nvSpPr>
        <p:spPr>
          <a:xfrm>
            <a:off x="2971800" y="4343400"/>
            <a:ext cx="1066680" cy="1066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Oval 33"/>
          <p:cNvSpPr/>
          <p:nvPr/>
        </p:nvSpPr>
        <p:spPr>
          <a:xfrm>
            <a:off x="4724280" y="502920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5597280" y="6019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Dina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Oval 35"/>
          <p:cNvSpPr/>
          <p:nvPr/>
        </p:nvSpPr>
        <p:spPr>
          <a:xfrm>
            <a:off x="4495680" y="38098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38"/>
          <p:cNvSpPr/>
          <p:nvPr/>
        </p:nvSpPr>
        <p:spPr>
          <a:xfrm>
            <a:off x="3352680" y="13716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6594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1"/>
          <p:cNvSpPr/>
          <p:nvPr/>
        </p:nvSpPr>
        <p:spPr>
          <a:xfrm>
            <a:off x="6400800" y="838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43" descr="BD10300_"/>
          <p:cNvPicPr/>
          <p:nvPr/>
        </p:nvPicPr>
        <p:blipFill>
          <a:blip r:embed="rId4"/>
          <a:stretch/>
        </p:blipFill>
        <p:spPr>
          <a:xfrm>
            <a:off x="7682040" y="599760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4" descr="BD10297_"/>
          <p:cNvPicPr/>
          <p:nvPr/>
        </p:nvPicPr>
        <p:blipFill>
          <a:blip r:embed="rId5"/>
          <a:stretch/>
        </p:blipFill>
        <p:spPr>
          <a:xfrm>
            <a:off x="8448840" y="35082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5" descr="BD10301_"/>
          <p:cNvPicPr/>
          <p:nvPr/>
        </p:nvPicPr>
        <p:blipFill>
          <a:blip r:embed="rId6"/>
          <a:stretch/>
        </p:blipFill>
        <p:spPr>
          <a:xfrm>
            <a:off x="3800520" y="26748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" descr="BD10300_"/>
          <p:cNvPicPr/>
          <p:nvPr/>
        </p:nvPicPr>
        <p:blipFill>
          <a:blip r:embed="rId7"/>
          <a:stretch/>
        </p:blipFill>
        <p:spPr>
          <a:xfrm>
            <a:off x="6610320" y="4951440"/>
            <a:ext cx="122400" cy="125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7" descr="BD10300_"/>
          <p:cNvPicPr/>
          <p:nvPr/>
        </p:nvPicPr>
        <p:blipFill>
          <a:blip r:embed="rId8"/>
          <a:stretch/>
        </p:blipFill>
        <p:spPr>
          <a:xfrm>
            <a:off x="3110040" y="32097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8" descr="BD10302_"/>
          <p:cNvPicPr/>
          <p:nvPr/>
        </p:nvPicPr>
        <p:blipFill>
          <a:blip r:embed="rId9"/>
          <a:stretch/>
        </p:blipFill>
        <p:spPr>
          <a:xfrm>
            <a:off x="5029200" y="2971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9" descr="BD10299_"/>
          <p:cNvPicPr/>
          <p:nvPr/>
        </p:nvPicPr>
        <p:blipFill>
          <a:blip r:embed="rId10"/>
          <a:stretch/>
        </p:blipFill>
        <p:spPr>
          <a:xfrm>
            <a:off x="2897280" y="1949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j0222021"/>
          <p:cNvPicPr/>
          <p:nvPr/>
        </p:nvPicPr>
        <p:blipFill>
          <a:blip r:embed="rId11"/>
          <a:stretch/>
        </p:blipFill>
        <p:spPr>
          <a:xfrm>
            <a:off x="7315200" y="3124080"/>
            <a:ext cx="531720" cy="53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1" descr="BD10298_"/>
          <p:cNvPicPr/>
          <p:nvPr/>
        </p:nvPicPr>
        <p:blipFill>
          <a:blip r:embed="rId12"/>
          <a:stretch/>
        </p:blipFill>
        <p:spPr>
          <a:xfrm>
            <a:off x="4952880" y="1219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2" descr="BD10301_"/>
          <p:cNvPicPr/>
          <p:nvPr/>
        </p:nvPicPr>
        <p:blipFill>
          <a:blip r:embed="rId13"/>
          <a:stretch/>
        </p:blipFill>
        <p:spPr>
          <a:xfrm>
            <a:off x="47242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3" descr="BD10301_"/>
          <p:cNvPicPr/>
          <p:nvPr/>
        </p:nvPicPr>
        <p:blipFill>
          <a:blip r:embed="rId14"/>
          <a:stretch/>
        </p:blipFill>
        <p:spPr>
          <a:xfrm>
            <a:off x="114300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4"/>
          <p:cNvSpPr/>
          <p:nvPr/>
        </p:nvSpPr>
        <p:spPr>
          <a:xfrm>
            <a:off x="1828800" y="638640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55" descr="BD10297_"/>
          <p:cNvPicPr/>
          <p:nvPr/>
        </p:nvPicPr>
        <p:blipFill>
          <a:blip r:embed="rId15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6" descr="BD10297_"/>
          <p:cNvPicPr/>
          <p:nvPr/>
        </p:nvPicPr>
        <p:blipFill>
          <a:blip r:embed="rId16"/>
          <a:stretch/>
        </p:blipFill>
        <p:spPr>
          <a:xfrm>
            <a:off x="3708360" y="612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7" descr="BD10300_"/>
          <p:cNvPicPr/>
          <p:nvPr/>
        </p:nvPicPr>
        <p:blipFill>
          <a:blip r:embed="rId1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8" descr="BD10300_"/>
          <p:cNvPicPr/>
          <p:nvPr/>
        </p:nvPicPr>
        <p:blipFill>
          <a:blip r:embed="rId18"/>
          <a:stretch/>
        </p:blipFill>
        <p:spPr>
          <a:xfrm>
            <a:off x="5116680" y="1994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9" descr="BD10301_"/>
          <p:cNvPicPr/>
          <p:nvPr/>
        </p:nvPicPr>
        <p:blipFill>
          <a:blip r:embed="rId19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0" descr="BD10301_"/>
          <p:cNvPicPr/>
          <p:nvPr/>
        </p:nvPicPr>
        <p:blipFill>
          <a:blip r:embed="rId20"/>
          <a:stretch/>
        </p:blipFill>
        <p:spPr>
          <a:xfrm>
            <a:off x="8028000" y="500544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1"/>
          <p:cNvSpPr/>
          <p:nvPr/>
        </p:nvSpPr>
        <p:spPr>
          <a:xfrm>
            <a:off x="2972880" y="990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ur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新細明體"/>
              </a:rPr>
              <a:t>Three Stages of Monetary Refor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tage I. Convergence of DEY (Dollar-Euro-Yen) Exchange Rates and G-3 Monetar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Use of DEY as platform, possibly with gold, for world currency, the IN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reation of INTOR and Ratification by the Board of Governors of IM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762120" y="4952880"/>
            <a:ext cx="168732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371600" y="380880"/>
            <a:ext cx="1752480" cy="1676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895480" y="2590920"/>
            <a:ext cx="2210040" cy="2133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22280" y="2895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18960" y="5486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G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881240" y="563868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823480" y="594360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0" y="2590920"/>
            <a:ext cx="2286000" cy="220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90720" y="-4457880"/>
            <a:ext cx="3529080" cy="2986200"/>
            <a:chOff x="90720" y="-4457880"/>
            <a:chExt cx="3529080" cy="2986200"/>
          </a:xfrm>
        </p:grpSpPr>
        <p:sp>
          <p:nvSpPr>
            <p:cNvPr id="152" name="_s1028"/>
            <p:cNvSpPr/>
            <p:nvPr/>
          </p:nvSpPr>
          <p:spPr>
            <a:xfrm>
              <a:off x="90720" y="-310032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29"/>
            <p:cNvSpPr/>
            <p:nvPr/>
          </p:nvSpPr>
          <p:spPr>
            <a:xfrm>
              <a:off x="2968920" y="-373392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0"/>
            <p:cNvSpPr/>
            <p:nvPr/>
          </p:nvSpPr>
          <p:spPr>
            <a:xfrm>
              <a:off x="498600" y="-2692440"/>
              <a:ext cx="814320" cy="814320"/>
            </a:xfrm>
            <a:prstGeom prst="ellipse">
              <a:avLst/>
            </a:prstGeom>
            <a:solidFill>
              <a:srgbClr val="f3f7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1"/>
            <p:cNvSpPr/>
            <p:nvPr/>
          </p:nvSpPr>
          <p:spPr>
            <a:xfrm>
              <a:off x="2968920" y="-445788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640840" y="3048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4495680" y="0"/>
            <a:ext cx="521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890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  <a:ea typeface="新細明體"/>
              </a:rPr>
              <a:t>(Inner circles represent gold sto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581280" y="33526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609480" y="3048120"/>
            <a:ext cx="1219320" cy="11430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新細明體"/>
              </a:rPr>
              <a:t>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1828800" y="8380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1219320" y="548640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Ger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105520" y="6172200"/>
            <a:ext cx="38088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352680" y="6095880"/>
            <a:ext cx="609840" cy="60984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2514600" y="167652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752480" y="3809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1980720" y="4114800"/>
            <a:ext cx="17528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733560" y="426708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67080" y="4191120"/>
            <a:ext cx="9144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419720" y="4038480"/>
            <a:ext cx="22096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V="1">
            <a:off x="4495680" y="3276720"/>
            <a:ext cx="1447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4800600" y="1600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ahoma"/>
                <a:ea typeface="新細明體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5029200" y="1828800"/>
            <a:ext cx="457200" cy="4572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4933800" y="1555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 flipH="1">
            <a:off x="4266720" y="2209680"/>
            <a:ext cx="8384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5943600" y="2743200"/>
            <a:ext cx="9144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2"/>
          <p:cNvSpPr/>
          <p:nvPr/>
        </p:nvSpPr>
        <p:spPr>
          <a:xfrm>
            <a:off x="7238880" y="3276720"/>
            <a:ext cx="30492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 flipV="1">
            <a:off x="6781680" y="26665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32767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566400" y="201312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6969600" y="2895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  <a:ea typeface="新細明體"/>
              </a:rPr>
              <a:t>The INTOR: What could we expec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single unit for quot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unit for denominating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rate of inflation for participating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interest rate on risk-fre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global busines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The International Monetary System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721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533520" y="1066680"/>
            <a:ext cx="1550880" cy="147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57200" y="28954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2590920" y="48006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27432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29718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165440" y="1447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37"/>
          <p:cNvSpPr/>
          <p:nvPr/>
        </p:nvSpPr>
        <p:spPr>
          <a:xfrm>
            <a:off x="5105520" y="396252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Oval 40"/>
          <p:cNvSpPr/>
          <p:nvPr/>
        </p:nvSpPr>
        <p:spPr>
          <a:xfrm>
            <a:off x="457200" y="46483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Oval 43"/>
          <p:cNvSpPr/>
          <p:nvPr/>
        </p:nvSpPr>
        <p:spPr>
          <a:xfrm>
            <a:off x="304920" y="4114800"/>
            <a:ext cx="38088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7"/>
          <p:cNvSpPr/>
          <p:nvPr/>
        </p:nvSpPr>
        <p:spPr>
          <a:xfrm>
            <a:off x="1676520" y="2438280"/>
            <a:ext cx="685800" cy="6098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50"/>
          <p:cNvSpPr/>
          <p:nvPr/>
        </p:nvSpPr>
        <p:spPr>
          <a:xfrm flipH="1">
            <a:off x="297180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83988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53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4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5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6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7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8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5107680" y="4114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2136240" y="42670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66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67"/>
          <p:cNvSpPr/>
          <p:nvPr/>
        </p:nvSpPr>
        <p:spPr>
          <a:xfrm flipH="1">
            <a:off x="2819160" y="48769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68"/>
          <p:cNvSpPr/>
          <p:nvPr/>
        </p:nvSpPr>
        <p:spPr>
          <a:xfrm flipH="1">
            <a:off x="2895480" y="4876920"/>
            <a:ext cx="76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69"/>
          <p:cNvSpPr/>
          <p:nvPr/>
        </p:nvSpPr>
        <p:spPr>
          <a:xfrm>
            <a:off x="3048120" y="49528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70"/>
          <p:cNvSpPr/>
          <p:nvPr/>
        </p:nvSpPr>
        <p:spPr>
          <a:xfrm>
            <a:off x="4648320" y="4648320"/>
            <a:ext cx="457200" cy="4572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71"/>
          <p:cNvSpPr/>
          <p:nvPr/>
        </p:nvSpPr>
        <p:spPr>
          <a:xfrm>
            <a:off x="4724280" y="4419720"/>
            <a:ext cx="763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72"/>
          <p:cNvSpPr/>
          <p:nvPr/>
        </p:nvSpPr>
        <p:spPr>
          <a:xfrm>
            <a:off x="49680" y="41148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73"/>
          <p:cNvSpPr/>
          <p:nvPr/>
        </p:nvSpPr>
        <p:spPr>
          <a:xfrm flipV="1">
            <a:off x="609480" y="396252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74"/>
          <p:cNvSpPr/>
          <p:nvPr/>
        </p:nvSpPr>
        <p:spPr>
          <a:xfrm flipV="1">
            <a:off x="1752480" y="434304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75"/>
          <p:cNvSpPr/>
          <p:nvPr/>
        </p:nvSpPr>
        <p:spPr>
          <a:xfrm flipH="1">
            <a:off x="20574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278F-41D5-4FEC-8010-0DD953C39658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3BE4-7652-40CE-85C3-83F62185EB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1523880" y="32004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3"/>
          <p:cNvGrpSpPr/>
          <p:nvPr/>
        </p:nvGrpSpPr>
        <p:grpSpPr>
          <a:xfrm>
            <a:off x="304920" y="457200"/>
            <a:ext cx="8610480" cy="5762520"/>
            <a:chOff x="304920" y="457200"/>
            <a:chExt cx="8610480" cy="5762520"/>
          </a:xfrm>
        </p:grpSpPr>
        <p:sp>
          <p:nvSpPr>
            <p:cNvPr id="796" name="Rectangle 4"/>
            <p:cNvSpPr/>
            <p:nvPr/>
          </p:nvSpPr>
          <p:spPr>
            <a:xfrm>
              <a:off x="304920" y="457200"/>
              <a:ext cx="8610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The SDR Baske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SDR = dollar + euro + yen + poun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9e90f"/>
                  </a:solidFill>
                  <a:latin typeface="Times New Roman"/>
                  <a:ea typeface="SimSun"/>
                </a:rPr>
                <a:t>                    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7" name="Object 5"/>
            <p:cNvGraphicFramePr/>
            <p:nvPr/>
          </p:nvGraphicFramePr>
          <p:xfrm>
            <a:off x="2057400" y="1905120"/>
            <a:ext cx="5257800" cy="43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257800" cy="43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90f"/>
                </a:solidFill>
                <a:latin typeface="Arial"/>
                <a:ea typeface="SimSun"/>
              </a:rPr>
              <a:t>Quotas in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04920" y="495360"/>
          <a:ext cx="9829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360"/>
                    <a:ext cx="9829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DD8B-3411-45AF-9DDA-37B8BB132758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9509-AD43-4E4C-9DA9-7041134421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  <a:ea typeface="SimSun"/>
              </a:rPr>
              <a:t>Intor Sandwi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1295280" y="1523880"/>
          <a:ext cx="64245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424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447920" y="1143000"/>
            <a:ext cx="5867280" cy="5486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SimSun"/>
              </a:rPr>
              <a:t>World Map with the INT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4038480" y="1219320"/>
            <a:ext cx="1755720" cy="1755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5715000" y="2819520"/>
            <a:ext cx="1554120" cy="155412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5791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8"/>
          <p:cNvSpPr/>
          <p:nvPr/>
        </p:nvSpPr>
        <p:spPr>
          <a:xfrm>
            <a:off x="3048120" y="1905120"/>
            <a:ext cx="666720" cy="6667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44197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048120" y="1295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2133720" y="2590920"/>
            <a:ext cx="1371600" cy="1371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13"/>
          <p:cNvSpPr/>
          <p:nvPr/>
        </p:nvSpPr>
        <p:spPr>
          <a:xfrm>
            <a:off x="3352680" y="4343400"/>
            <a:ext cx="547920" cy="547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5"/>
          <p:cNvSpPr/>
          <p:nvPr/>
        </p:nvSpPr>
        <p:spPr>
          <a:xfrm>
            <a:off x="2362320" y="16765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6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7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8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9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2209680" y="37339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2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24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27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666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29"/>
          <p:cNvSpPr/>
          <p:nvPr/>
        </p:nvSpPr>
        <p:spPr>
          <a:xfrm>
            <a:off x="1981080" y="4495680"/>
            <a:ext cx="4572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832400" y="50292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1"/>
          <p:cNvSpPr/>
          <p:nvPr/>
        </p:nvSpPr>
        <p:spPr>
          <a:xfrm>
            <a:off x="5181480" y="4876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72680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33"/>
          <p:cNvSpPr/>
          <p:nvPr/>
        </p:nvSpPr>
        <p:spPr>
          <a:xfrm>
            <a:off x="4191120" y="5791320"/>
            <a:ext cx="365040" cy="36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3962520" y="61722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3279240" y="4952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6477120" y="3429000"/>
            <a:ext cx="457200" cy="45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6555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6095880" y="18288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602208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267080" y="3505320"/>
            <a:ext cx="731880" cy="731880"/>
          </a:xfrm>
          <a:prstGeom prst="ellipse">
            <a:avLst/>
          </a:prstGeom>
          <a:solidFill>
            <a:srgbClr val="ffcc99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42"/>
          <p:cNvSpPr/>
          <p:nvPr/>
        </p:nvSpPr>
        <p:spPr>
          <a:xfrm>
            <a:off x="44956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43"/>
          <p:cNvSpPr/>
          <p:nvPr/>
        </p:nvSpPr>
        <p:spPr>
          <a:xfrm>
            <a:off x="47242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73040" y="2361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.S. the Ascending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ready by 1890 the U.S. was the largest econom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outbreak of World War I, the United States was on the verge of superpower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System (1913) gave the U.S. a central bank and concentrated its monetary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 economy was already larger than the next three biggest economies pu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poised to break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304920" y="1523880"/>
            <a:ext cx="1981080" cy="1905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457200" y="5257800"/>
            <a:ext cx="168768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495680" y="533520"/>
            <a:ext cx="175284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6800" y="1752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25280" y="857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7560" y="594360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822760" y="59436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2362320" y="251460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18800" y="297180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Diagram 15"/>
          <p:cNvGrpSpPr/>
          <p:nvPr/>
        </p:nvGrpSpPr>
        <p:grpSpPr>
          <a:xfrm>
            <a:off x="5500800" y="1104840"/>
            <a:ext cx="3529080" cy="2986200"/>
            <a:chOff x="5500800" y="1104840"/>
            <a:chExt cx="3529080" cy="2986200"/>
          </a:xfrm>
        </p:grpSpPr>
        <p:sp>
          <p:nvSpPr>
            <p:cNvPr id="199" name="_s2052"/>
            <p:cNvSpPr/>
            <p:nvPr/>
          </p:nvSpPr>
          <p:spPr>
            <a:xfrm>
              <a:off x="5500800" y="246240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2053"/>
            <p:cNvSpPr/>
            <p:nvPr/>
          </p:nvSpPr>
          <p:spPr>
            <a:xfrm>
              <a:off x="8379000" y="182880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5908680" y="2870280"/>
              <a:ext cx="814320" cy="814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2055"/>
            <p:cNvSpPr/>
            <p:nvPr/>
          </p:nvSpPr>
          <p:spPr>
            <a:xfrm>
              <a:off x="8379000" y="110484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58520" y="308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57200" y="-50760"/>
            <a:ext cx="93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352680" y="3657600"/>
            <a:ext cx="129564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1066680" y="22096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952880" y="9907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838080" y="59436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799560" y="5562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52680" y="6172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6629400" y="53341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1218960" y="2819520"/>
            <a:ext cx="75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 flipV="1">
            <a:off x="1600200" y="2666520"/>
            <a:ext cx="1905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676520" y="1523520"/>
            <a:ext cx="33526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 flipV="1">
            <a:off x="1676520" y="2590920"/>
            <a:ext cx="4419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1447920" y="2819520"/>
            <a:ext cx="19810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1600200" y="2743200"/>
            <a:ext cx="373392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676520" y="2666880"/>
            <a:ext cx="502920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e-formed Gold Standard in the Late 1920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had half the world’s monetary g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the rest of the world went back to the gold standar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enacted its monetary law in 192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economy was just a year away from economic catastroph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the global unit of account but gold was the means of sett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 Proskurovska</cp:lastModifiedBy>
  <dcterms:modified xsi:type="dcterms:W3CDTF">2010-06-07T16:25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